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2F7-D1AB-4843-8409-669D8DE9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5C9-D20F-4CB5-8B96-A26B2BC5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403-66A5-4E6A-AC67-29FA14DD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543-D7CE-44D2-96EA-F53F152F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6CA1-D7E5-440A-9D00-FC6FB5F9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AFE3-37F6-47DF-827A-BAE59C22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6E81-9948-4C31-A84B-245C4D5E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557-B848-4A16-B2C3-0C6534D2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5AB8-FE8E-4B76-A4A4-8EAE56EE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8018-759B-4F34-B9D7-B4EE0736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4A41-2F71-418C-BB5E-5EDFEE53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413-C620-4B20-AED5-C62052DC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1089-8686-48E8-AD11-30426D59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63B1-80DA-4246-8DDA-9B236CA3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46A4-B668-43C9-9307-55BA98E4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C0A0-6EE0-476E-B746-63A3BACA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8C2E-A49F-467E-8E71-38B53BDD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F59-6C45-4C36-ABC6-BAD0F32B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6FF-A04B-4452-9184-9D658391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A4D-EDAC-4C4E-88EE-50E66635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20B-605E-4C2A-AB41-22F100F9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3A9-B7ED-4B1B-B636-62528385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A9F-2CF3-4DAF-B4E0-9305A906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CFC-67B6-4D82-B1BD-FB19EDE3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21A9-E4B0-44E1-B33E-52016156EA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4F2E-6DA5-4D4A-8D82-3F4ABEE231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Allie y Kaylee’s Tienda   </a:t>
            </a:r>
            <a:br>
              <a:rPr sz="4400"/>
            </a:br>
            <a:r>
              <a:rPr b="0" lang="en-US" sz="4400" spc="-1" strike="noStrike">
                <a:solidFill>
                  <a:srgbClr val="4e5b6f"/>
                </a:solidFill>
                <a:latin typeface="Arial"/>
              </a:rPr>
              <a:t> de ropa </a:t>
            </a:r>
            <a:endParaRPr b="0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Oufits_from_forever_21-_1"/>
          <p:cNvPicPr/>
          <p:nvPr/>
        </p:nvPicPr>
        <p:blipFill>
          <a:blip r:embed="rId1"/>
          <a:stretch/>
        </p:blipFill>
        <p:spPr>
          <a:xfrm>
            <a:off x="762120" y="1523880"/>
            <a:ext cx="2286000" cy="5010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33920" y="1828800"/>
            <a:ext cx="459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a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ntal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gra,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mi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is, blanca marron y negra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apa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ges. Ella lleva un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ges,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intur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ron y un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lse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ancas y neg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811680" y="685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940120" y="1981080"/>
            <a:ext cx="58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men lleva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sti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sada y roja. Ella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intu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arron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2857320" cy="404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09360" y="7621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e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352800">
            <a:off x="804960" y="1447560"/>
            <a:ext cx="208908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29000" y="1600200"/>
            <a:ext cx="56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a lleva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br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anca,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ė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na, un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uan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anca, un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antal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lgod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68580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nvi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s7d1.scene7.com/is/image/anf/kids_60471?$anfKeylooksHero$"/>
          <p:cNvPicPr/>
          <p:nvPr/>
        </p:nvPicPr>
        <p:blipFill>
          <a:blip r:embed="rId1"/>
          <a:stretch/>
        </p:blipFill>
        <p:spPr>
          <a:xfrm>
            <a:off x="152280" y="1143000"/>
            <a:ext cx="2800440" cy="6019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2895480" y="1676520"/>
            <a:ext cx="52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il lleva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qu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ul,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mis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nca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 j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u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t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gras y un casu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fa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583080" y="9144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http://www.polyvore.com/cgi/img-thing?.out=jpg&amp;size=l&amp;tid=22506948"/>
          <p:cNvPicPr/>
          <p:nvPr/>
        </p:nvPicPr>
        <p:blipFill>
          <a:blip r:embed="rId1"/>
          <a:stretch/>
        </p:blipFill>
        <p:spPr>
          <a:xfrm rot="20945400">
            <a:off x="372600" y="2074680"/>
            <a:ext cx="3006720" cy="4224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52680" y="2017800"/>
            <a:ext cx="430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ela lleva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br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is-verde,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l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rde y blanca,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mi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anca y u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al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sada, morada y verd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1880" y="6094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rima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3940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9880" y="1905120"/>
            <a:ext cx="395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cia lleva vestido blanca, un bolsa amarilla, roja, azul. Ella lleva zapatos amari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94040" y="5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0:51Z</dcterms:created>
  <dc:creator>kaveneykay</dc:creator>
  <dc:description/>
  <dc:language>en-US</dc:language>
  <cp:lastModifiedBy>obrienall</cp:lastModifiedBy>
  <dcterms:modified xsi:type="dcterms:W3CDTF">2011-12-19T19:39:14Z</dcterms:modified>
  <cp:revision>376</cp:revision>
  <dc:subject/>
  <dc:title>Allie y Kaylee’s Tiende de ropa</dc:title>
</cp:coreProperties>
</file>